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02AB-B42C-4F1C-B310-841880258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74B4-ECB8-4F2D-A5FC-5C4CBD4A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D665-4261-4EDF-8A67-EC3BCA2E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D9DF-ED6E-469E-8EF3-78610B6CF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478C-3162-4282-8D01-1F5BF4469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78A3-F374-4D00-ADD7-68314C67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6644-C80B-49B2-BFEA-B3E04628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E650-EBBF-422F-BB0F-D933B587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DAF5-2A84-4173-8018-DCE11940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DC18-0869-443C-B438-5DE54490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944D-ECE3-4747-B40A-341ECF99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8263-4D6C-486F-B55F-F1AC60F0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7759-AB41-4AC6-B3AF-9049D6AE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F2AC-9383-474D-B801-0843CC8D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706A-61EC-4470-8783-B371DCFF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6785-905E-4DB6-8077-BBBE93D0E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4457-1090-4452-9048-65011B84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31EA-9D7D-4980-9F95-63FA394E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7895-AB1B-4FBF-B118-BE72C47D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47AB-FDC6-4266-B170-C2AFE0DD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0084-CF76-4159-8791-F286B5D3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4431-02C4-4AD8-8580-7736541C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2C65-D4D7-4BD1-873B-F1D90FA1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145D-EC48-4660-B969-EFF1B38A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764E-CF77-4E59-A5FF-676902654FAC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E6D9-38A9-4779-A1A3-C83D9BAC5C7D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20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的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掌握状态转移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绘制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学习三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状态继电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及其步进指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T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R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学会运用状态编程法编制简单顺序控制应用程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掌握编程软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X Developer V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状态编程法中的一般应用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45160" y="835560"/>
            <a:ext cx="344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编制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SF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图的注意事项和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55720" y="1630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40" y="1335960"/>
            <a:ext cx="5461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的规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19800" y="1699200"/>
            <a:ext cx="26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转移图中的流程不能交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017800" y="2055960"/>
            <a:ext cx="590544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84360" y="3284640"/>
            <a:ext cx="8459640" cy="3152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45160" y="835560"/>
            <a:ext cx="344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编制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SF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图的注意事项和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55720" y="1630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" y="1335960"/>
            <a:ext cx="5461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的规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4520" y="1920600"/>
            <a:ext cx="851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若要对某个区间状态进行复位，可用区间复位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ZRS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15(a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处理；若要使某个状态中的输出禁止，可按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15(b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听示方法处理；若要使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全部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断开，可用特殊辅助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3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成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15(c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电路，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3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继续进行程序运算，但所有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都断开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11440" y="6460200"/>
            <a:ext cx="32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15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区域复位和输出禁止的处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rcRect l="6895" t="0" r="5172" b="0"/>
          <a:stretch/>
        </p:blipFill>
        <p:spPr>
          <a:xfrm>
            <a:off x="4908600" y="0"/>
            <a:ext cx="429084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9640" y="153864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择性分支与汇合及其编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43800" y="8355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三、多流程步进顺序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24360" y="259920"/>
            <a:ext cx="560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2827440"/>
            <a:ext cx="4896000" cy="40305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235520" y="1943640"/>
            <a:ext cx="25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择性分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的特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择性分支、汇合的编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择性分支对应的步进梯形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66960" y="1559520"/>
            <a:ext cx="35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并行分支与汇合的编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66240" y="7578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三、多流程步进顺序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32920" y="98280"/>
            <a:ext cx="56055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5320" y="1989720"/>
            <a:ext cx="31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并行分支状态转移图及其特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并行分支状态转移图的编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并行分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对应的状态梯形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84360" y="3040200"/>
            <a:ext cx="4321080" cy="38178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8796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5280" y="1695600"/>
            <a:ext cx="43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带式运输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原理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F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283356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rcRect l="0" t="0" r="17564" b="0"/>
          <a:stretch/>
        </p:blipFill>
        <p:spPr>
          <a:xfrm>
            <a:off x="5541840" y="0"/>
            <a:ext cx="360216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046880" y="3849120"/>
            <a:ext cx="66780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三、多流程步进顺序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0" y="-374400"/>
            <a:ext cx="667800" cy="76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Arial"/>
              </a:rPr>
              <a:t>模块五   步进指令及状态编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92360" y="1911960"/>
            <a:ext cx="431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带式运输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梯形图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rcRect l="63378" t="45631" r="8455" b="0"/>
          <a:stretch/>
        </p:blipFill>
        <p:spPr>
          <a:xfrm>
            <a:off x="5940360" y="404640"/>
            <a:ext cx="2851200" cy="6453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rcRect l="63378" t="0" r="0" b="53739"/>
          <a:stretch/>
        </p:blipFill>
        <p:spPr>
          <a:xfrm>
            <a:off x="2479680" y="1700280"/>
            <a:ext cx="3483000" cy="51577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56055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五   步进指令及</a:t>
            </a:r>
            <a:br>
              <a:rPr sz="3200"/>
            </a:b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9240" y="3849120"/>
            <a:ext cx="66780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三、多流程步进顺序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70600" y="619920"/>
            <a:ext cx="606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四、利用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GX Developer V8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软件编制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皮带运输机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顺控程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rcRect l="0" t="0" r="50694" b="8643"/>
          <a:stretch/>
        </p:blipFill>
        <p:spPr>
          <a:xfrm>
            <a:off x="0" y="1025640"/>
            <a:ext cx="1835280" cy="5832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rcRect l="0" t="49604" r="0" b="0"/>
          <a:stretch/>
        </p:blipFill>
        <p:spPr>
          <a:xfrm>
            <a:off x="5526000" y="1303200"/>
            <a:ext cx="3618000" cy="5554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rcRect l="0" t="0" r="0" b="49434"/>
          <a:stretch/>
        </p:blipFill>
        <p:spPr>
          <a:xfrm>
            <a:off x="1914480" y="1341360"/>
            <a:ext cx="3583080" cy="55166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560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41600" y="1557000"/>
            <a:ext cx="383832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三台电机三种运行模式的控制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042920" y="2108160"/>
            <a:ext cx="7632720" cy="47498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-6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1760" y="206136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1760" y="484920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46520" y="7236720"/>
            <a:ext cx="28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rcRect l="0" t="0" r="44908" b="82144"/>
          <a:stretch/>
        </p:blipFill>
        <p:spPr>
          <a:xfrm>
            <a:off x="900000" y="0"/>
            <a:ext cx="4032360" cy="18604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rcRect l="0" t="17860" r="44908" b="34471"/>
          <a:stretch/>
        </p:blipFill>
        <p:spPr>
          <a:xfrm>
            <a:off x="900000" y="1844640"/>
            <a:ext cx="4071960" cy="5013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rcRect l="0" t="65508" r="59552" b="0"/>
          <a:stretch/>
        </p:blipFill>
        <p:spPr>
          <a:xfrm>
            <a:off x="5435640" y="1700280"/>
            <a:ext cx="3122640" cy="37893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859280" y="174240"/>
            <a:ext cx="42847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</a:t>
            </a:r>
            <a:br>
              <a:rPr sz="3600"/>
            </a:b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 rot="10800000">
            <a:off x="5724360" y="5731920"/>
            <a:ext cx="40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34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演示电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转移图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-6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1760" y="206136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31760" y="484920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46520" y="7236720"/>
            <a:ext cx="28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859280" y="174240"/>
            <a:ext cx="42847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</a:t>
            </a:r>
            <a:br>
              <a:rPr sz="3600"/>
            </a:b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rcRect l="64001" t="0" r="0" b="43861"/>
          <a:stretch/>
        </p:blipFill>
        <p:spPr>
          <a:xfrm>
            <a:off x="1979640" y="0"/>
            <a:ext cx="3090960" cy="6858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rcRect l="64001" t="55966" r="0" b="0"/>
          <a:stretch/>
        </p:blipFill>
        <p:spPr>
          <a:xfrm>
            <a:off x="5435640" y="1557360"/>
            <a:ext cx="3044880" cy="53006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826920" y="2500560"/>
            <a:ext cx="11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35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演示电路步进梯形图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63200" y="1483560"/>
            <a:ext cx="41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步进指令与状态转移图表示方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09480" y="2059560"/>
            <a:ext cx="26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步进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8388360" cy="1363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411280" y="4005360"/>
            <a:ext cx="6264360" cy="2541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077840" y="4867920"/>
            <a:ext cx="94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进指令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表示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417040" y="1700280"/>
            <a:ext cx="36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实训内容—专用钻床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控制系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59920" y="2421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隶书"/>
              </a:rPr>
              <a:t>实训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87280" y="3541680"/>
            <a:ext cx="670896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掌握多流程步进顺序控制状态转移图的编制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学会运用专用软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GX Developer V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进行状态法编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302560" y="1556280"/>
            <a:ext cx="445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专用钻床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输入输出继电器的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I/O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接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632720" cy="41562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21840" y="764280"/>
            <a:ext cx="292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专用钻床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参考状态转移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900000" y="1608120"/>
            <a:ext cx="5400720" cy="52498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rcRect l="0" t="0" r="74209" b="63047"/>
          <a:stretch/>
        </p:blipFill>
        <p:spPr>
          <a:xfrm>
            <a:off x="7020000" y="1413000"/>
            <a:ext cx="1701720" cy="5445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4427640" y="1773360"/>
            <a:ext cx="1439640" cy="934920"/>
          </a:xfrm>
          <a:prstGeom prst="wedgeRoundRectCallout">
            <a:avLst>
              <a:gd name="adj1" fmla="val 4023"/>
              <a:gd name="adj2" fmla="val 74449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参考编程手册绘制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F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076720" y="4653000"/>
            <a:ext cx="1368360" cy="1224000"/>
          </a:xfrm>
          <a:prstGeom prst="wedgeRoundRectCallout">
            <a:avLst>
              <a:gd name="adj1" fmla="val 87240"/>
              <a:gd name="adj2" fmla="val 4083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软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GX Developer V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辑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168280" y="764280"/>
            <a:ext cx="46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参考编程手册绘制的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专用钻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梯形图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rcRect l="0" t="0" r="0" b="48112"/>
          <a:stretch/>
        </p:blipFill>
        <p:spPr>
          <a:xfrm>
            <a:off x="1332000" y="1413000"/>
            <a:ext cx="2984400" cy="54450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rcRect l="0" t="51892" r="0" b="0"/>
          <a:stretch/>
        </p:blipFill>
        <p:spPr>
          <a:xfrm>
            <a:off x="4284720" y="1484280"/>
            <a:ext cx="31766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87200" y="764280"/>
            <a:ext cx="678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用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GX Developer V8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编辑的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专用钻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梯形图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rcRect l="0" t="47637" r="27073" b="649"/>
          <a:stretch/>
        </p:blipFill>
        <p:spPr>
          <a:xfrm>
            <a:off x="5219640" y="1409760"/>
            <a:ext cx="3414600" cy="54482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rcRect l="0" t="0" r="27073" b="52261"/>
          <a:stretch/>
        </p:blipFill>
        <p:spPr>
          <a:xfrm>
            <a:off x="1042920" y="1628640"/>
            <a:ext cx="35496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916360" y="162792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边学边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55640" y="3860640"/>
            <a:ext cx="3456000" cy="20671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4859280" y="3860640"/>
            <a:ext cx="3024360" cy="20466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2548440" y="2186640"/>
            <a:ext cx="187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画出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4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示波形对应的顺序功能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55640" y="28177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小车在初始状态时停在中间，限位开关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按下起动按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小车按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4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示的顺序运动，最后返回并停在初始位置。画出控制系统的顺序功能图，并编写梯形图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48920" y="6020640"/>
            <a:ext cx="25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42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图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03880" y="6021360"/>
            <a:ext cx="19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-4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波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8135640" cy="31971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987880" y="2132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边学边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47080" y="1556280"/>
            <a:ext cx="31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指令编写出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4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示状态转移图的梯形图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11280" y="5299560"/>
            <a:ext cx="828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                                         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43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59280" y="155628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边学边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39640" y="2284920"/>
            <a:ext cx="829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4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的两条书室运输带顺序相连，按下起动按钮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号运输带开始运行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号运输带自动起动。停机的顺序与起动的顺序刚好相反，间隔时间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画出状态转移图，编写出梯形图程序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复件 复件 1" descr=""/>
          <p:cNvPicPr/>
          <p:nvPr/>
        </p:nvPicPr>
        <p:blipFill>
          <a:blip r:embed="rId1"/>
          <a:stretch/>
        </p:blipFill>
        <p:spPr>
          <a:xfrm>
            <a:off x="2627280" y="3068640"/>
            <a:ext cx="4392720" cy="19065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708360" y="5157000"/>
            <a:ext cx="194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44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63200" y="1483560"/>
            <a:ext cx="41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步进指令与状态转移图表示方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5920" y="2059560"/>
            <a:ext cx="22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步进指令的使用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32000" y="2492280"/>
            <a:ext cx="3240000" cy="1649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9640" y="4419720"/>
            <a:ext cx="8604360" cy="2092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724360" y="2421000"/>
            <a:ext cx="2376720" cy="1824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34680" y="4220280"/>
            <a:ext cx="286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-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栈操作指令在状态内的正确使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38760" y="421416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-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线圈的互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70520" y="6490440"/>
            <a:ext cx="25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-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状态内没有触点线圈的编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31200" y="1483560"/>
            <a:ext cx="41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步进指令与状态转移图表示方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2059560"/>
            <a:ext cx="51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状态转移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SFC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建立及其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8780" t="0" r="5841" b="0"/>
          <a:stretch/>
        </p:blipFill>
        <p:spPr>
          <a:xfrm>
            <a:off x="5732640" y="1989000"/>
            <a:ext cx="3411360" cy="1920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292720" y="4032360"/>
            <a:ext cx="3456000" cy="2485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390720" y="3855240"/>
            <a:ext cx="21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-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台车自动往返示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20000" y="6490440"/>
            <a:ext cx="23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-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台车自动往返顺序控制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3902760"/>
            <a:ext cx="46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下启动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电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正转，台车前进，碰到限位开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电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反转，台车后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台车后退碰到限位开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Q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台车电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停转，台车停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第二次前进，碰到限位开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Q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再次后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当后退再次碰到限位开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Q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台车停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89800" y="2780280"/>
            <a:ext cx="20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台车自动往返控制要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148360" y="0"/>
            <a:ext cx="373212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90760" y="1556280"/>
            <a:ext cx="243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步进指令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状态转移图表示方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459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模块五   步进指令</a:t>
            </a:r>
            <a:br>
              <a:rPr sz="2800"/>
            </a:b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2635920"/>
            <a:ext cx="517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状态转移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SFC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建立及其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38800" y="3140640"/>
            <a:ext cx="26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台车自动往返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SFC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及特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240440"/>
            <a:ext cx="493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1)SF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复杂的任务或过程分解成了若干个工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相对某一个具体的工序来说，控制任务实现了简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只要弄清各工序成立的条件、工序转移的条件和转移的方向．就可以进行这类图形的设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4)SF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容易理解，可读性强，能清晰地反映全部控制工艺过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63200" y="1483560"/>
            <a:ext cx="41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步进指令与状态转移图表示方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843280" y="1208160"/>
            <a:ext cx="6300720" cy="5649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2819520" cy="5178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124160" y="76392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台车自动往返控制状态转移图、步进梯形图、指令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45160" y="835560"/>
            <a:ext cx="344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编制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SF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图的注意事项和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55720" y="1630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1737360"/>
            <a:ext cx="3952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编程时必须使用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初始状态的软元件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程顺序为先驱动，再转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4)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使用多重（双线圈）输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负载的驱动、状态转移条件可能为多个元件的逻辑组合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" y="935280"/>
            <a:ext cx="54612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的注意事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4356000" cy="22352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39640" y="3789360"/>
            <a:ext cx="6300720" cy="2476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877080" y="4005360"/>
            <a:ext cx="197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6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顺序状态转移用置位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7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之间不能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6156360"/>
            <a:ext cx="81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8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初始状态可由其他状态驱动，但运行开始必须用其他方法预先做好驱动，否则状态流程不可能向下进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69960" y="193248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若向上转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称重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向非相连的下面转移或向其他流程状态转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称跳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称为顺序不连续转移，顺序不连续转移的状态不能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要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进行状态转移，并要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中用“”符号表示转移目标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45160" y="835560"/>
            <a:ext cx="344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编制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SF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图的注意事项和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55720" y="1630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40" y="1335960"/>
            <a:ext cx="5461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的规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11280" y="2565360"/>
            <a:ext cx="8243640" cy="34416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901600" y="6091920"/>
            <a:ext cx="34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11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连续转移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中的表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95280" y="3645000"/>
            <a:ext cx="6264360" cy="3014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42920" y="202536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流程中要表示状态的自复位处理时，要用“”符号表示，自复位状态在程序中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S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表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45160" y="835560"/>
            <a:ext cx="344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编制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SF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图的注意事项和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55720" y="1630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40" y="1335960"/>
            <a:ext cx="5461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的规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500720" y="1557360"/>
            <a:ext cx="3527280" cy="2173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084720" y="4149720"/>
            <a:ext cx="26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3)SF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中的转移条件不能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P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R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P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。应按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13(b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确定转移条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7:07:48Z</dcterms:created>
  <dc:creator>雨林木风</dc:creator>
  <dc:description/>
  <dc:language>en-US</dc:language>
  <cp:lastModifiedBy>雨林木风</cp:lastModifiedBy>
  <dcterms:modified xsi:type="dcterms:W3CDTF">2010-10-07T15:01:34Z</dcterms:modified>
  <cp:revision>114</cp:revision>
  <dc:subject/>
  <dc:title>模块二  S7-200系列PLC的基本结构 </dc:title>
</cp:coreProperties>
</file>